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746-3A3B-4146-8270-738E2AF9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8C2-44A1-4867-880E-94E8E672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98D-5B56-4C14-B39B-6C540AAE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B02-6160-4C28-9657-96D90C47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58E-611E-4AFC-A591-DEB3CC20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C10-C064-43A2-BB02-2417ED0C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42A-D48C-4946-8B9F-AED48D85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911-3DCD-45D2-B8ED-8A693BB9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245-C5EA-4CF2-92F0-DC0DAC95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41B-7E73-4DA9-91F4-7DEC8A2A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E18-848F-443E-B698-652D67E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905-241E-4D6F-BBAE-90BB020A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3E71-0F61-423F-B7F7-2A5C4525F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2.4   Variables and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1752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two variable expressions equal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743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95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quation that contains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733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of an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1911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number that makes an equatio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1574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bjective 1: Classifying Types of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8080"/>
            <a:ext cx="82296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y equ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hether each equation is true, false, or an open sentence. Ex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3(b – 8)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7 - (- 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– 9 + 5 =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an equ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rite an equation for six times a number added to the number is the opposite of forty-two. State whether the equation is true, false, or an open sentence.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1676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pen – variabl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438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alse – 13 doesn’t equa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5053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rue    -4 +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6386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6n + n = - 42      open, variable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158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4400" y="3124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124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Open, variabl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3124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5257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457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71600"/>
            <a:ext cx="8229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ubstituting to 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45 a solution of the equation 120 + x = 7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 gift pack must hold 20 lb. of food. Apples weigh 9 lb. and cheese weighs 5 lb. Can the jar of jam that completes the package weigh 7 lb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362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+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 =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800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+ 5 + 7 = 20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334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380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bjective 2: Checking Equations Using Sub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1371600"/>
            <a:ext cx="4496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0 – x = 3    open, variabl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048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1814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3 – 6 = ?                           27  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6400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00:21:34Z</dcterms:created>
  <dc:creator>Susannah Graham</dc:creator>
  <dc:description/>
  <dc:language>en-US</dc:language>
  <cp:lastModifiedBy>grahams</cp:lastModifiedBy>
  <dcterms:modified xsi:type="dcterms:W3CDTF">2011-11-02T11:33:36Z</dcterms:modified>
  <cp:revision>12</cp:revision>
  <dc:subject/>
  <dc:title>http://www.phschool.com/atschool/academy123/html/bbapplet_wl-problem-430699.html  section 2.4 - evaluating</dc:title>
</cp:coreProperties>
</file>